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BFE-9741-4A0F-AA5C-8948259B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55C-B972-4F00-BB34-48F825E3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5B0-9781-4201-9711-06850EC5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D7C-8FC9-45C4-B3A1-18AADDF9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C0A-450F-4324-9817-908C2304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4CA-3DB8-4AFA-B6F1-4ABD4C41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D9F-7845-479D-A772-90DCF0DD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D16-0D30-4BF6-AF97-C0092086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5C2-28F2-496C-819B-43C4AE5C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D0A-4117-405C-ADFB-621EDF1A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2B8-FF22-43C0-B895-EEBA1A2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D10-1379-4960-A94D-E15FEECD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791-6B02-4F84-B928-78638F7F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singleparentbible.com.au/content/Image/Christine%2520Anu.jpg&amp;imgrefurl=http://www.singleparentbible.com.au/contents.php%3Fid%3D12%26p%3D10&amp;h=295&amp;w=305&amp;sz=83&amp;hl=en&amp;start=7&amp;um=1&amp;tbnid=8NUUkOxFlGqdaM:&amp;tbnh=112&amp;tbnw=116&amp;prev=/images%3Fq%3Dchristine%2Banu%26um%3D1%26hl%3Den%26safe%3Dstric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79280" y="5733720"/>
            <a:ext cx="45291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NIEL-AL-EDD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76500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HRISTINE AN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421000"/>
            <a:ext cx="25923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SHE WAS B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A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born in Cairns to     Torres Strait  islander in March 15 ,19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A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gan performing as a dancer and later went on to s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ing career started as a backup vocalist for songwriter Neil Murray'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5 Christine Anu won an ARIA Award for best female recording 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6 win the awar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est female art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43280" y="476280"/>
            <a:ext cx="338436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WAR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most famous song is My Island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68360" y="549360"/>
            <a:ext cx="4535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HRISTINE ANU FAMOUS SO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27302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3:08:56Z</dcterms:created>
  <dc:creator>Reservoir District Secondary College</dc:creator>
  <dc:description/>
  <dc:language>en-US</dc:language>
  <cp:lastModifiedBy>Reservoir District Secondary College</cp:lastModifiedBy>
  <dcterms:modified xsi:type="dcterms:W3CDTF">2008-07-17T03:35:57Z</dcterms:modified>
  <cp:revision>2</cp:revision>
  <dc:subject/>
  <dc:title>Slide 1</dc:title>
</cp:coreProperties>
</file>